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F7B1-F46C-4692-991B-69B28561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E56C-A657-4CB6-9B24-64E68725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4CC4-2A01-4650-B8D8-7081018E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1C86-64B6-4C0C-B81C-2431F40D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633A-83D6-4EB6-86CA-8B0AEB9C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4585-B2C8-40A1-92BC-6F8D6F85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7C54-F8ED-40E4-9656-91FA1BC2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0EF9-616B-452D-8FEA-8D0BB5EC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4F0E-8FA1-4BB0-AFA8-3366FE7C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EA0D-8BED-4249-96A3-4112B8E6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6A16-E9A8-4003-9630-BD5CF9D0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A391-933F-4BEA-A4F4-46E34A60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659D-BBAC-4056-AECC-EEE43A55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33C4-AB02-40F0-9227-1DBA09FB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0752-70F6-4325-947F-A44887C0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6E5E-B22B-4D49-97E0-35F0C0C5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514B-AC77-4ADD-A4A6-D9CD74E7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9361-C6EA-40B3-A9DF-B42E17A3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5CFD-5B5C-450C-AEF1-CC5CAD8B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A366-8023-4F79-B543-F5D313BD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7E17-A9C8-4F1A-80AA-E2C4A054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9C9A-6849-41A6-B905-E21E5BF8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0AB5-99F9-44AA-9609-F3D6E7CD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AA67-D570-4BC7-83A0-7A723C06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4F15-F5C7-4C71-98ED-1FFB669600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5D45-F8EB-42C8-ADC8-14462327FF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Welcome to PE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An active body is a healthy body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94428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tion 6- Water break, rest, crazy moves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188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Muscle of the day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106668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amstring/ Bicep Femori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b2b2b2"/>
                </a:solidFill>
                <a:uFillTx/>
                <a:latin typeface="Arial"/>
              </a:rPr>
              <a:t>Benefits of Being Activ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Strong muscles and bo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Weight Contro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Endurance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bility or strength to continue or last, despite fatigue, stress, or other adverse conditions; stamina: He has amazing physical enduran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A better outlook on lif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Physically active kids also are more likely to be academically successfu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b2b2b2"/>
                </a:solidFill>
                <a:uFillTx/>
                <a:latin typeface="Arial"/>
              </a:rPr>
              <a:t>Nutrition Fun Fact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ating foods from all of the food groups (grains, fruits, vegetables, proteins, dai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oteins, and healthy fats) each day to meet your nutritional needs is important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533520" y="-228600"/>
            <a:ext cx="10211040" cy="7467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Partner Passing/Trapping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260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Shooting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4644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Dribbling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4104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Mini-Soccer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2448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Fitness Station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756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1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2b2b2"/>
                </a:solidFill>
                <a:uFillTx/>
                <a:latin typeface="Arial"/>
              </a:rPr>
              <a:t>What you should know and be able to do at the end of this clas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774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uscle of the week (What it’s called, where it’s at, and an exercise you can do to strengthen that muscle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74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ribble a soccer ball with the inside and outside of your foo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74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top a kicked ball by trapping it with your foot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74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operate and work together in a productive manner within your group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74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enefits of being activ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ny Questions??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PE Standard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1.16,1.17,1.20,2.11,2.13,4.9,4.3,5.2,5.5,5.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1.11,1.15,2.4,2.11,3.1,4.1,4.4,4.10,5.2,5.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1.11,1.14,2.5,3.7,4.9,5.3,5.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1.9,1.10,1.15,1.18,2.1,2.2,2.7,4.5,5.4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1.9,1.14,1.15,2.1,3.2,4.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48765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ntil the end.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Arial"/>
              </a:rPr>
              <a:t>Today’s Soccer Station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1. Pass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2. Shoo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3.Dribb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4. Mini-Soc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5. Fitness 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6. Water break, rest, crazy mo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Station 1- Passing/Trapping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840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Station 2- Shooting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0584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Station 3- Dribbling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7200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Station 4-Mini-Soccer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6012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tation 5-Fitness Station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20 knee be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20 scissor kic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20 jumping jac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 Run 1 la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 Start O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4572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0:06:32Z</dcterms:created>
  <dc:creator>overholtca</dc:creator>
  <dc:description/>
  <dc:language>en-US</dc:language>
  <cp:lastModifiedBy>overholtca</cp:lastModifiedBy>
  <dcterms:modified xsi:type="dcterms:W3CDTF">2010-12-07T17:06:13Z</dcterms:modified>
  <cp:revision>10</cp:revision>
  <dc:subject/>
  <dc:title>Welcome to PE</dc:title>
</cp:coreProperties>
</file>